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.3-</a:t>
            </a:r>
            <a:fld id="{5CF6433A-AE95-4C64-9701-FBBF9E49491E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ecomposing a Function as a Composition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lculus, one needs to recognize how a function can be expressed as the composition of two functions. This can be thought of as “decomposing”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aises (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) to the fourth power. Two functions that can be used for the compositi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and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1676520"/>
          <a:ext cx="253548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25354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066680" y="4419720"/>
          <a:ext cx="3886200" cy="16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419720"/>
                    <a:ext cx="388620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2856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  Increasing, Decreasing, and Piecew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  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3  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  Symmetry and Transform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  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.3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Composition of Function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composition of two functions and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of the com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a function as a composition of two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osition of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66680" y="2239920"/>
          <a:ext cx="694692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39920"/>
                    <a:ext cx="694692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80769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733400"/>
          <a:ext cx="16002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33400"/>
                    <a:ext cx="1600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447920" y="2743200"/>
          <a:ext cx="4952880" cy="20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43200"/>
                    <a:ext cx="495288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191120" y="1752480"/>
          <a:ext cx="15238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752480"/>
                    <a:ext cx="15238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80769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47920" y="1733400"/>
          <a:ext cx="16002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33400"/>
                    <a:ext cx="1600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447920" y="2743200"/>
          <a:ext cx="49528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43200"/>
                    <a:ext cx="49528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191120" y="1752480"/>
          <a:ext cx="15238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752480"/>
                    <a:ext cx="15238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077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47920" y="1676520"/>
          <a:ext cx="158256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1582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371600" y="2743200"/>
          <a:ext cx="342900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743200"/>
                    <a:ext cx="34290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114800" y="1676520"/>
          <a:ext cx="150660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1676520"/>
                    <a:ext cx="15066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077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47920" y="1676520"/>
          <a:ext cx="158256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1582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380960" y="2666880"/>
          <a:ext cx="4172040" cy="14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0960" y="2666880"/>
                    <a:ext cx="417204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114800" y="1676520"/>
          <a:ext cx="150660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1676520"/>
                    <a:ext cx="15066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467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                                              , find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not defined for negative radicands.  Since the inputs of           are the outpu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domain of           consists of all the values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nonnegativ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14600" y="1676520"/>
          <a:ext cx="164952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76520"/>
                    <a:ext cx="16495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523880" y="4648320"/>
          <a:ext cx="121932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648320"/>
                    <a:ext cx="12193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812960" y="1066680"/>
          <a:ext cx="426708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2960" y="1066680"/>
                    <a:ext cx="42670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200400" y="3124080"/>
          <a:ext cx="89064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124080"/>
                    <a:ext cx="8906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895480" y="3581280"/>
          <a:ext cx="89064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581280"/>
                    <a:ext cx="8906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200400" y="5486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mai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105520" y="5562720"/>
          <a:ext cx="3460680" cy="35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05520" y="5562720"/>
                    <a:ext cx="34606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7:47Z</dcterms:modified>
  <cp:revision>215</cp:revision>
  <dc:subject/>
  <dc:title>No Slide Title</dc:title>
</cp:coreProperties>
</file>